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8ED-1C2A-40A6-9914-1EDBB602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ABB-96C2-4654-A2B8-D1D72D93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C46-4533-4985-AD1E-7B67E174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9FB-ACE0-4E6A-A1E1-E3AD5749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9CB-08D1-4E9A-AF2C-E23529E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7EA-5A78-4BDE-B3A6-19624D16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097-0031-4C07-A756-EAB9E83A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321-64DD-41E2-A26A-388E55D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4B5-E8C3-4412-A8D9-33218C58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2B0-2882-434A-A606-FA1E2AF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FAB-E8D5-4DD0-B8D8-94BFB98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E25-5858-4550-ADB9-04FEF4C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C86-6081-4487-BC70-C2816E53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2880" y="243000"/>
            <a:ext cx="373572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9604" dir="13500000" blurRad="0" rotWithShape="0">
                    <a:srgbClr val="ff0000"/>
                  </a:outerShdw>
                </a:effectLst>
                <a:latin typeface="Rockwell"/>
              </a:rPr>
              <a:t>BIOLOGY RESEARC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9604" dir="13500000" blurRad="0" rotWithShape="0">
                  <a:srgbClr val="ff0000"/>
                </a:outerShdw>
              </a:effectLst>
              <a:latin typeface="Rockwell"/>
              <a:ea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9604" dir="13500000" blurRad="0" rotWithShape="0">
                    <a:srgbClr val="ff0000"/>
                  </a:outerShdw>
                </a:effectLst>
                <a:latin typeface="Rockwell"/>
              </a:rPr>
              <a:t>CLUB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9604" dir="13500000" blurRad="0" rotWithShape="0">
                  <a:srgbClr val="ff0000"/>
                </a:outerShdw>
              </a:effectLst>
              <a:latin typeface="Rockwell"/>
              <a:ea typeface="Rockwel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1791000" y="5313240"/>
            <a:ext cx="45370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19736436" blurRad="0" rotWithShape="0">
                    <a:srgbClr val="ff0000"/>
                  </a:outerShdw>
                </a:effectLst>
                <a:latin typeface="Rockwell"/>
              </a:rPr>
              <a:t>NORTH HIGH SCHOOL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19736436" blurRad="0" rotWithShape="0">
                  <a:srgbClr val="ff0000"/>
                </a:outerShdw>
              </a:effectLst>
              <a:latin typeface="Rockwell"/>
              <a:ea typeface="Rockwell"/>
            </a:endParaRPr>
          </a:p>
        </p:txBody>
      </p:sp>
      <p:pic>
        <p:nvPicPr>
          <p:cNvPr id="44" name="" descr="logo_300_RGB.jpg"/>
          <p:cNvPicPr/>
          <p:nvPr/>
        </p:nvPicPr>
        <p:blipFill>
          <a:blip r:embed="rId2"/>
          <a:stretch/>
        </p:blipFill>
        <p:spPr>
          <a:xfrm>
            <a:off x="5810400" y="81104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Nhsin.jpg (31396 bytes)"/>
          <p:cNvPicPr/>
          <p:nvPr/>
        </p:nvPicPr>
        <p:blipFill>
          <a:blip r:embed="rId3"/>
          <a:stretch/>
        </p:blipFill>
        <p:spPr>
          <a:xfrm>
            <a:off x="225360" y="8121600"/>
            <a:ext cx="682560" cy="73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thumbnail of small NSF logo in color "/>
          <p:cNvPicPr/>
          <p:nvPr/>
        </p:nvPicPr>
        <p:blipFill>
          <a:blip r:embed="rId4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520" y="1808280"/>
            <a:ext cx="340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ARE YOU  A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JUN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OR A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SENIO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1436760"/>
            <a:ext cx="3025800" cy="1447560"/>
          </a:xfrm>
          <a:prstGeom prst="cloudCallout">
            <a:avLst>
              <a:gd name="adj1" fmla="val 91657"/>
              <a:gd name="adj2" fmla="val 16337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3120" y="589608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Thursday, September 2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Bookman Old Style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2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t Mr. Ross’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 3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6880" y="7007400"/>
            <a:ext cx="5991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Kelderman, Mr. Welch, and Mr. 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Ingrid Rocio Caton: irsantospinzon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00600">
            <a:off x="906120" y="584820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163400">
            <a:off x="928800" y="5769000"/>
            <a:ext cx="1722240" cy="87624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632480" y="1440000"/>
            <a:ext cx="1404720" cy="162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90640" y="310356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k between high school-college-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xplore your ow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8920" y="4827600"/>
            <a:ext cx="3911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1120" y="851544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Marks Lab</cp:lastModifiedBy>
  <dcterms:modified xsi:type="dcterms:W3CDTF">2006-09-18T17:42:33Z</dcterms:modified>
  <cp:revision>16</cp:revision>
  <dc:subject/>
  <dc:title>Slide 1</dc:title>
</cp:coreProperties>
</file>